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991D-202D-42C2-B813-DFA0368C7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C010-D241-4D5F-AAEA-E3828C837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9FEA-625F-44C2-9129-3A57B210A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3958-3F30-4136-86B6-859C74E3B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735B-A5D3-42FA-B676-DF5F059FC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DF5B-F4EF-4D7C-9D7A-9FA268F86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D223-6CDF-42FD-B7F8-B56EDA11B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8D13-4343-4689-AD9B-8D80A55DD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54BB-5DDC-4103-AA49-B2C3AC2AB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BFC8-DE41-4A4E-8121-0FA48DD74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6B8D-5258-4A03-B74F-E08AEAB60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F0D7-EE1F-4302-A9D2-57E6E604D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6EF7-38E7-413F-BAB0-7E66B3D70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7EEE-736E-4753-9661-B69D78AD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10E5-C1D8-4F39-B529-675B6DBF6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D448-905C-403A-94CA-32814939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B8D9-EA4D-4B19-A521-2E64B570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: http://www.uncp.edu/academics/colleges-schools-departments/departments/biology/careers-biology/biology-sub-disci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8605-A914-4210-839B-B36C03C65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590A-1836-4C57-A0DF-AEF9BE1D3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8E1C-8EFC-4933-869A-CB8C6E2F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F89E-73E1-4F70-A654-F7B87F1B9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EA83-AA59-4ED5-8786-1B11CA4BD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FAF7-AAEE-4A09-A13D-2200B444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F63C-CC14-4536-B50B-6FADE2B70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538-9126-48F7-8C3E-CB71D0D5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9F1-2F98-46BF-BA24-379A8D5C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D2A-F58E-4014-8B4B-95A8B093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DA5-D9DF-4292-A70E-9ACDD3F1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332-1A25-4259-8883-BC07D38A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D95-F7BD-4507-97AC-629EFA63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7CD-91AE-49B4-8248-E22212D8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BCB-F811-418F-B3C3-C6197231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933-BA1A-466A-9BB0-4AC20CA8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2B9-1EF8-4BF4-8FF9-6520DC0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D82-C239-4B56-AE24-A0678A7D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8C7-8373-417D-9662-0BB7CC8C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4204-B07D-4D6B-A404-AF3F72B72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ncp.edu/academics/colleges-schools-departments/departments/biology/careers-biology/biology-sub-discipline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nes/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nes/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joints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ic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ment of body parts/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amputations (mecha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i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i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ike using flashcards for review, this is a great website for creating or finding the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more comprehensiv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Biology disciplines from the University of North Carolina Pemb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joints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ic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ment of body parts/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amputations (mecha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t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t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s and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lands and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 &amp;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ide of a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 &amp; epi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 &amp;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ide of a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 &amp; epi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6-09-08T03:15:58Z</dcterms:modified>
  <cp:revision>385</cp:revision>
  <dc:subject/>
  <dc:title>Biology Disciplines</dc:title>
</cp:coreProperties>
</file>